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01B7-51A9-46E9-8705-B51FD40D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E720-D37E-47A8-8D98-E596E971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7926-BC00-4AF7-A4CE-D939875D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8426-6234-4347-A388-49BB1FD1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6834-76A7-4892-B04A-4BE255A9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3BCC-B848-4703-9B02-C8BE20E2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65BD-5DF2-47E7-92EC-CBD89902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58EF-6AE0-48D4-BF9F-61A851FB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93A1-E67A-4B5F-AF2A-02C9AACD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F1C7-5249-4110-8619-1A1A361C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04EE-9C09-4571-B9BA-97D0CCFD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A874-F8C3-498D-8789-DAB4FC55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D954-4383-4C7E-8317-1B8AD16E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A080-BF30-41B3-9923-64A0E5FB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445C-F2BA-4FF3-A355-6AF771BE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C077-264C-440B-A2A3-7FA8483B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CFA7-6ADC-4A8D-B96B-34ACEA0F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6463-6626-48C2-B57C-059DE9C4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FC37-DC6E-4E00-B838-C48D998E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5B35-5F4C-48F9-93EE-D1C486B5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3CD2-B3CC-4925-85FA-4752494D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18A-4FDA-41EF-ACBC-21A88DE6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E666-BCDA-4D0C-9E6E-06E2409D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AFA1-18FD-4FD7-AC34-C62EBD8A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3DFC-4E97-4BA8-B7D3-74A39050904A}" type="slidenum">
              <a:rPr b="0" lang="zh-CN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1524-CA23-4159-9DE1-A5DA0D332F53}" type="slidenum">
              <a:rPr b="0" lang="zh-CN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647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48360" y="465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595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特殊句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弗之怠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又患无名师与游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寓逆旅主人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1844640"/>
            <a:ext cx="24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宾语前置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76720" y="2997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省略句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4221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省略句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特殊句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今诸生学</a:t>
            </a:r>
            <a:r>
              <a:rPr b="1" lang="zh-CN" sz="3200" spc="-1" strike="noStrike" u="sng">
                <a:solidFill>
                  <a:srgbClr val="292929"/>
                </a:solidFill>
                <a:uFillTx/>
                <a:latin typeface="Arial"/>
              </a:rPr>
              <a:t>于太学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其业有不精，德有不成者，非天质之卑，则心不若余之专耳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88000" y="1916280"/>
            <a:ext cx="23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状语后置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59280" y="4437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判断句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特殊句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自谓少时用心</a:t>
            </a:r>
            <a:r>
              <a:rPr b="1" lang="zh-CN" sz="3200" spc="-1" strike="noStrike" u="sng">
                <a:solidFill>
                  <a:srgbClr val="292929"/>
                </a:solidFill>
                <a:uFillTx/>
                <a:latin typeface="Arial"/>
              </a:rPr>
              <a:t>于学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甚劳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撰长书以为贽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0360" y="1989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状语后置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0360" y="3068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省略句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翻译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61437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以中有足乐者，不知口体之奉不若人也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盖余之勤且艰若此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2637000"/>
            <a:ext cx="6192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因为心中有足以快乐的事，不觉得吃的穿的不如别人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5013360"/>
            <a:ext cx="63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大概我的辛勤且艰苦读书就像这样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翻译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其业有不精，德有不成者，非天质之卑，则心不若余之专耳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余朝京师，生以乡人子谒余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39840" y="4154400"/>
            <a:ext cx="772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2852640"/>
            <a:ext cx="7201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他们学业有不精通，品德没有养成的人，不是天资低下，而是用心没有我专一罢了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42920" y="573408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32000" y="5229360"/>
            <a:ext cx="8007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我进京朝见皇帝，马生凭同乡晚辈的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身份拜见我。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第一段主要写了什么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3645000"/>
            <a:ext cx="79200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第一段作者是从哪几个方面谈自己刻苦求学的经历？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234936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年轻时求学之难和用心之专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-108000" y="3357720"/>
            <a:ext cx="3527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99933"/>
                </a:solidFill>
                <a:uFillTx/>
                <a:latin typeface="Times New Roman"/>
              </a:rPr>
              <a:t>自身求学经历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7640" y="1916280"/>
            <a:ext cx="304920" cy="3581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1484280"/>
            <a:ext cx="395928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幼时抄书之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成年叩问之难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求师奔走之劳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住读生活之苦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132000" y="544500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52293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总括：勤且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第二段主要写了哪些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0920" y="41497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184464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今太学生优越的学习条件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71640" y="3141720"/>
            <a:ext cx="71276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写了哪些方面的优越条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42920" y="4437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衣、食、行、求师、书籍等方面的优越条件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77835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衣食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—”日有……岁有……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行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    —”无奔走之劳”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求师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—”未有问而不告……”        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书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    —”凡所宜有之书……”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</a:rPr>
              <a:t>结论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—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155736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    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”住读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活之苦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2781360"/>
            <a:ext cx="871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”求师奔走之劳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4360" y="3500280"/>
            <a:ext cx="36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”成年叩问之难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01080" y="4149720"/>
            <a:ext cx="225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”幼时抄书之艰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90880" y="5207040"/>
            <a:ext cx="4941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业有不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德有不成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非天质之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则心不若余之专耳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176400" y="2637000"/>
            <a:ext cx="72900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比   诸    生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1844640"/>
            <a:ext cx="216000" cy="381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通过对比，作者想说明什么道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42920" y="249228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2565360"/>
            <a:ext cx="77058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明学习条件的好差，对学习效果并没有决定性的影响。学习条件不好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以学有所成，学习条件优越，也会“业有不精，德有不成”。促使学习成功的重要因素是学者的态度：要“勤且艰”，要专心，要乐在其中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468360" y="1211760"/>
            <a:ext cx="8005680" cy="5646240"/>
            <a:chOff x="468360" y="1211760"/>
            <a:chExt cx="8005680" cy="56462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5580000" y="2754360"/>
              <a:ext cx="2802960" cy="41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" name=""/>
            <p:cNvGrpSpPr/>
            <p:nvPr/>
          </p:nvGrpSpPr>
          <p:grpSpPr>
            <a:xfrm>
              <a:off x="468360" y="1211760"/>
              <a:ext cx="8005680" cy="1938240"/>
              <a:chOff x="468360" y="1211760"/>
              <a:chExt cx="8005680" cy="1938240"/>
            </a:xfrm>
          </p:grpSpPr>
          <p:sp>
            <p:nvSpPr>
              <p:cNvPr id="98" name=""/>
              <p:cNvSpPr/>
              <p:nvPr/>
            </p:nvSpPr>
            <p:spPr>
              <a:xfrm>
                <a:off x="468360" y="1211760"/>
                <a:ext cx="8005680" cy="11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   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宋濂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（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1310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～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1381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），字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景濂，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号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潜溪，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谥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文宪，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浙江浦江人，明初著名散文家。他生活在元末明初，少时家贫，勤</a:t>
                </a:r>
                <a:endParaRPr b="0" lang="en-US" sz="3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8360" y="2538360"/>
                <a:ext cx="50400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奋好学。从文治方面对明朝的建立和巩固做出了贡献，被推为“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开国文臣之首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”。生平著作很多，有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《宋学士文集》</a:t>
                </a:r>
                <a:r>
                  <a:rPr b="1" lang="zh-CN" sz="3400" spc="-1" strike="noStrike">
                    <a:solidFill>
                      <a:srgbClr val="3333ff"/>
                    </a:solidFill>
                    <a:latin typeface="楷体_GB2312"/>
                    <a:ea typeface="楷体_GB2312"/>
                  </a:rPr>
                  <a:t>。</a:t>
                </a:r>
                <a:endParaRPr b="0" lang="en-US" sz="3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16000" y="620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作者写这篇赠序的原因是什么？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2005560"/>
            <a:ext cx="799164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⑴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马君则在太学已二年，流辈甚称其贤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⑵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乡关系，“以乡人子谒余”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⑶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撰长书，辞甚畅达，与之论辩，言和而色夷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总之，“是可谓善学者”。“其将归见其亲”，“故道为学之难”来勉励他。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68360" y="3141720"/>
            <a:ext cx="64087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明太学生学习条件之优越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628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年轻时求学之难和用心之专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2000" y="765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第一段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256536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第二段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4508640"/>
            <a:ext cx="19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第三段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5229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明作者的写作意图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451640" y="1916280"/>
            <a:ext cx="144720" cy="1800000"/>
          </a:xfrm>
          <a:custGeom>
            <a:avLst/>
            <a:gdLst>
              <a:gd name="textAreaLeft" fmla="*/ 0 w 144720"/>
              <a:gd name="textAreaRight" fmla="*/ 52200 w 14472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24720" y="24606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对比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4360" y="2365560"/>
            <a:ext cx="7705440" cy="21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本文作者生动地叙述了自己年轻时在买书、求师不易的条件下，刻苦学习的艰苦经历，语重心长地劝勉青年一代应当专心向学，刻苦用功，千万不要辜负良好的条件，浪费大好的时光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71640" y="24789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学了这篇文章，联系自身，谈谈你受到的启发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187280" y="76500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讨论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4360" y="902520"/>
            <a:ext cx="792000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⒈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下面句子朗读节奏有误的一项是（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．余／因得／遍观群书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．尝趋百里外／从乡之先达／执经叩问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C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．又患／无硕师／名人与游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D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．不知／口体之奉／不若人也。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6360" y="1989000"/>
            <a:ext cx="8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C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63640" y="332640"/>
            <a:ext cx="8280360" cy="108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练习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96840" y="1413000"/>
            <a:ext cx="472752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弗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怠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走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益慕圣贤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道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当余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从师也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盖余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勤且艰若此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2240" y="1413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之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00720" y="2133720"/>
            <a:ext cx="61210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代“抄书”    宾语前置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92920" y="2854440"/>
            <a:ext cx="22503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代词，指“书”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52320" y="3645000"/>
            <a:ext cx="21315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结构助词，的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04680" y="4437000"/>
            <a:ext cx="31068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主谓间取消句子独立性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50520" y="5877000"/>
            <a:ext cx="2236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结构助词，的 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16000" y="64296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92929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292929"/>
                </a:solidFill>
                <a:latin typeface="Arial"/>
                <a:ea typeface="楷体_GB2312"/>
              </a:rPr>
              <a:t>、一字多义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2205000"/>
            <a:ext cx="144720" cy="3529080"/>
          </a:xfrm>
          <a:custGeom>
            <a:avLst/>
            <a:gdLst>
              <a:gd name="textAreaLeft" fmla="*/ 92520 w 144720"/>
              <a:gd name="textAreaRight" fmla="*/ 145080 w 14472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03360" y="1267920"/>
            <a:ext cx="85406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衾拥覆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生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乡人子谒余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贫，无从致书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俯身倾耳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请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有足乐者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是人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书假余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58920" y="62064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87960" y="1341360"/>
            <a:ext cx="12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介词， 用。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20520" y="1989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介词，凭借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62640" y="2637000"/>
            <a:ext cx="22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连词，表目的，来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8560" y="3284640"/>
            <a:ext cx="250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连词，表修饰关系。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02360" y="3933720"/>
            <a:ext cx="28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连词，表原因， 因为。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47120" y="5445000"/>
            <a:ext cx="510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前一“以”，因为，同“是”组合，相当于“因此”；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后一 “以”是介词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,“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把”或“拿”。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1628640"/>
            <a:ext cx="144360" cy="360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93600 h 3600720"/>
              <a:gd name="textAreaBottom" fmla="*/ 3507120 h 36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258920" y="-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⒉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今异义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829440"/>
            <a:ext cx="799308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汤    媵人持汤沃灌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走    走送之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趋    尝趋百里外从乡之先达执经叩问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84360" y="148428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热水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11280" y="213372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食物等煮后所得的汁水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29000" y="3363840"/>
            <a:ext cx="12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跑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84360" y="4076640"/>
            <a:ext cx="19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行走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25680" y="530064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快步走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11280" y="5950080"/>
            <a:ext cx="14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趋势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42920" y="1844640"/>
            <a:ext cx="73080" cy="72072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42920" y="3716280"/>
            <a:ext cx="73080" cy="86508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42920" y="5589720"/>
            <a:ext cx="71640" cy="792000"/>
          </a:xfrm>
          <a:custGeom>
            <a:avLst/>
            <a:gdLst>
              <a:gd name="textAreaLeft" fmla="*/ 45720 w 71640"/>
              <a:gd name="textAreaRight" fmla="*/ 72000 w 7164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826920" y="2880"/>
            <a:ext cx="6050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或    或遇其叱咄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卒    卒获有所闻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遗    父母岁有裘葛之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假    以是人多以书假余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古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今义：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11280" y="549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有时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11280" y="1125360"/>
            <a:ext cx="19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或者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48000" y="213984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终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11280" y="2716200"/>
            <a:ext cx="16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士兵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35400" y="3860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赠送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11280" y="43718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遗失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84360" y="5516640"/>
            <a:ext cx="14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借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84360" y="609300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虚假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与真相反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116000" y="765000"/>
            <a:ext cx="71280" cy="792360"/>
          </a:xfrm>
          <a:custGeom>
            <a:avLst/>
            <a:gdLst>
              <a:gd name="textAreaLeft" fmla="*/ 45720 w 71280"/>
              <a:gd name="textAreaRight" fmla="*/ 71640 w 7128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2492280"/>
            <a:ext cx="73080" cy="72072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6000" y="4149720"/>
            <a:ext cx="71280" cy="71928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16000" y="5805360"/>
            <a:ext cx="71280" cy="71928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完成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&lt;&lt;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导学与同步训练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&gt;&gt;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及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&lt;&lt;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学习指导用书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&gt;&gt;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相关内容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</a:rPr>
              <a:t>课后整理好词类活用、通假字、一字多义、古今异义、特殊句式等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2614680"/>
            <a:ext cx="817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解题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本文写于洪武十一年（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1378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）。这一年，辞官归里的宋濂又从家乡到应天府（今江苏省南京市，当时是国都）朝见朱元璋。他的同乡晚辈马君则来拜见他，他便写了这篇“赠序”送给东阳马生。东阳，在今浙江省，当时与浦江、义乌等县同属金华府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赠序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古代的一种文体，有临别赠言性质，内容多为推重、赞许或勉励之辞。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604360" y="6524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8406"/>
                </a:moveTo>
                <a:lnTo>
                  <a:pt x="14899" y="8406"/>
                </a:lnTo>
                <a:lnTo>
                  <a:pt x="19321" y="3794"/>
                </a:lnTo>
                <a:lnTo>
                  <a:pt x="19321" y="17806"/>
                </a:lnTo>
                <a:lnTo>
                  <a:pt x="14899" y="13194"/>
                </a:lnTo>
                <a:lnTo>
                  <a:pt x="10469" y="13194"/>
                </a:lnTo>
                <a:close/>
              </a:path>
              <a:path fill="darken" w="34951" h="21600">
                <a:moveTo>
                  <a:pt x="20975" y="10800"/>
                </a:moveTo>
                <a:lnTo>
                  <a:pt x="24482" y="10800"/>
                </a:lnTo>
              </a:path>
              <a:path fill="darken" w="34951" h="21600">
                <a:moveTo>
                  <a:pt x="20975" y="8406"/>
                </a:moveTo>
                <a:lnTo>
                  <a:pt x="24482" y="5639"/>
                </a:lnTo>
              </a:path>
              <a:path fill="darken" w="34951" h="21600">
                <a:moveTo>
                  <a:pt x="20975" y="13194"/>
                </a:moveTo>
                <a:lnTo>
                  <a:pt x="24482" y="15961"/>
                </a:lnTo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9640" y="-2409480"/>
            <a:ext cx="7777440" cy="119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嗜（       ）                硕（  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叱咄（              ）     俟（  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负箧（      ）曳（      ）屣（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皲（      ）裂             媵（         ）人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衾（       ）                绮（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容臭（       ）            烨（ 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裘（      ）葛（     ）缊（ 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冻馁（       ）             谒（         ）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撰（          ）             贽（          ）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620640"/>
            <a:ext cx="9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ì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读准字音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1268280"/>
            <a:ext cx="22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ì duō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627120"/>
            <a:ext cx="14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uò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126828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ì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191628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iè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56000" y="1989000"/>
            <a:ext cx="16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07080" y="191628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ǐ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2637000"/>
            <a:ext cx="15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ūn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2637000"/>
            <a:ext cx="13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ìng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27640" y="3284640"/>
            <a:ext cx="12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ǐ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3213000"/>
            <a:ext cx="13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īn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3940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iù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56360" y="3933720"/>
            <a:ext cx="12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4581360"/>
            <a:ext cx="13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iú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4581360"/>
            <a:ext cx="11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gé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4581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ùn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68360" y="5229360"/>
            <a:ext cx="15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něi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27640" y="5229360"/>
            <a:ext cx="16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877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ì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58831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uàn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1280" y="1330560"/>
            <a:ext cx="4824360" cy="55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嗜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学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每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假借于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手自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笔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录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走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送之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尝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趋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百里外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40360" y="162864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喜欢，爱好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2492280"/>
            <a:ext cx="20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常常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40360" y="429264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跑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动词作状语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5229360"/>
            <a:ext cx="39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快步走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11640" y="335772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用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名词作状语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692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29"/>
                </a:solidFill>
                <a:latin typeface="Arial"/>
              </a:rPr>
              <a:t>解释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95280" y="1106280"/>
            <a:ext cx="396072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余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立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侍左右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德隆望尊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填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其室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或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遇其叱咄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08360" y="2421000"/>
            <a:ext cx="37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道德高声望高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92360" y="3500280"/>
            <a:ext cx="32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充满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67280" y="4437000"/>
            <a:ext cx="23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有时。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95640" y="14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站立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动词作状语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188720"/>
            <a:ext cx="4032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卒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获有所闻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四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支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僵劲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持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汤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沃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灌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日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再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食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被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绮绣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腰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白玉之环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67280" y="1341360"/>
            <a:ext cx="19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终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80000" y="206064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通”肢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肢体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285264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热水。      通”盥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洗手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3500280"/>
            <a:ext cx="28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两次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4292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通“披”，穿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067280" y="5013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名词作动词，挂在腰间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316520"/>
            <a:ext cx="748836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日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有</a:t>
            </a: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……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岁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有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裘葛之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遗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（</a:t>
            </a:r>
            <a:r>
              <a:rPr b="1" i="1" lang="zh-CN" sz="3600" spc="-1" strike="noStrike">
                <a:solidFill>
                  <a:srgbClr val="292929"/>
                </a:solidFill>
                <a:latin typeface="华文细黑"/>
                <a:ea typeface="华文细黑"/>
              </a:rPr>
              <a:t>wèi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博士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余之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手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录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假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诸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人而后见也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〖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非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天质之卑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 u="sng">
                <a:solidFill>
                  <a:srgbClr val="292929"/>
                </a:solidFill>
                <a:uFillTx/>
                <a:latin typeface="Arial"/>
                <a:ea typeface="楷体_GB2312"/>
              </a:rPr>
              <a:t>则</a:t>
            </a: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心不若余之专耳〗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220500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赠送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458136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之于”。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书。于，向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5877000"/>
            <a:ext cx="60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表选择，不是……而是……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995640" y="148428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每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每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名词作状语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27640" y="2930400"/>
            <a:ext cx="33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48000" y="299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国子监的老师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3716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用手，名词作状语。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5:08:50Z</dcterms:created>
  <dc:creator>汤蓉</dc:creator>
  <dc:description/>
  <dc:language>en-US</dc:language>
  <cp:lastModifiedBy> </cp:lastModifiedBy>
  <dcterms:modified xsi:type="dcterms:W3CDTF">2007-01-17T02:24:03Z</dcterms:modified>
  <cp:revision>86</cp:revision>
  <dc:subject/>
  <dc:title>送东阳马生序</dc:title>
</cp:coreProperties>
</file>